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0AF-E9C1-4B67-A81E-5FA365B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799-2512-4F21-8A51-E73D924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8B4-A5EB-4BF9-A1B1-EABE27DF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6B5-6479-40AB-841D-2E33464B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CCB-C532-4F13-A93A-D17DBB25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33F-BED7-4F04-BC03-E3F1091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1E06-CDEB-4C03-B858-2D2CB9A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7020-6BF7-4B27-8832-BC4A477D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F78B-D95F-4617-BE92-8A936A34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9E24-C40F-44C3-A6AD-6EE6BF7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A03-541E-4A1F-8F51-F9562D1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7F0-90F0-40E1-B3A9-7B4BCD8C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BAFC-F81E-418E-8943-6897CAC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5DD-8CBF-473E-926D-83FFDBE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180-B7DB-4248-81B6-D751BE9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85AC-772F-4C1B-9710-035376E3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879-8368-497D-BBAE-3BB7E292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431-C4EE-4356-B7A4-D39F50F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638-0525-4A8A-875E-57998C0F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FC0-25C8-49B8-8048-E48EB0F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16F-0D1F-46BE-B0CD-6B5353B8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191-BA18-40B8-98BD-B58DD97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6F1-4A37-43B4-8CD2-10899C4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247-E170-42B9-B5B6-39DFD1E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368-DF59-4E72-A180-2BB75E18D7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F0F-2BD5-4B08-8087-66F30BA5E8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bbd71"/>
                </a:solidFill>
                <a:uFillTx/>
                <a:latin typeface="Arial"/>
              </a:rPr>
              <a:t>17</a:t>
            </a:r>
            <a:r>
              <a:rPr b="1" lang="en-US" sz="4800" spc="-1" strike="noStrike" u="sng" baseline="30000">
                <a:solidFill>
                  <a:srgbClr val="dbbd71"/>
                </a:solidFill>
                <a:uFillTx/>
                <a:latin typeface="Arial"/>
              </a:rPr>
              <a:t>th</a:t>
            </a:r>
            <a:r>
              <a:rPr b="1" lang="en-US" sz="4800" spc="-1" strike="noStrike" u="sng">
                <a:solidFill>
                  <a:srgbClr val="dbbd71"/>
                </a:solidFill>
                <a:uFillTx/>
                <a:latin typeface="Arial"/>
              </a:rPr>
              <a:t> Century Political Philosophers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70180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2708280"/>
            <a:ext cx="221940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omas Hob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589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Loc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0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ocial Contract Theor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ahoma"/>
              </a:rPr>
              <a:t>Another Cool Thing About Locke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9144000" cy="57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f gov’t. doesn’t uphold righ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ople have Right to Overthr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ov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Think about what this saying.  In Absolutism,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king answers Only to God.  Locke says that if a king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doesn’t respect the wishes of his people, he’s out of a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ob.  This was the idea behind Parliament appointing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William and Mary… James II had not protected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rights of his people, so they (Parliament) had th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right to depose hi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Interestingly, the American colonists clung to this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idea when it came time for independence.  Seemed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the British king wasn’t following Locke’s laws i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1760s/1770s, so they had a right to overthrow hi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Locke Question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How does Locke’s view of huma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e differ from Hobbes’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kind of government does Lock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ow might Locke’s later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ved 1632-1704) influenced his view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man, as well as his political tho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A philosophical question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is man like in his “natural state?”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question fascinated thinkers around the late 17th century, the high point of the Scientific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ithout any society or laws or learned behaviors… how would people a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Do you believe it would be chaotic and warlike?  Or would it be a society of people cooperating and aiming at common goa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Leviathan,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Thomas Hobb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ote it in 1651,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ved through crazy ti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rn 1588, year Spanish Armada attempted to invade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ved through entire span of 30 Years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rot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iath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ust after end of English Civil 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Premise of </a:t>
            </a:r>
            <a:r>
              <a:rPr b="1" i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Leviath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90720"/>
            <a:ext cx="853416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Men are generally equal (strength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lligenc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No one can naturally beat everyone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 else… if fight happens, will be lo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200400"/>
            <a:ext cx="86868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Man is selfish… competing for scar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ngs leads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stant wa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Food, land, water all limited…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eople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constantly fight for them in natural s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280" y="5541840"/>
            <a:ext cx="907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All powerful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iath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uler) needed to kee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ace for industry, security &amp; social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Leviathan,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. People Agree to give power to ON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ep peace…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CI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RAC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unwritten agreemen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oined into by socie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23360" indent="-16272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 natural state, people eventually tire from constant war and decide to voluntarily give up some of their rights for protection… In Hobbes’ state, the only Right a person has is Lif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4800600"/>
            <a:ext cx="90676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. Once give power to One, can’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ken back or given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- That would lead to more war/constant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 struggle &amp; prevent human pro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08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05720" y="152280"/>
            <a:ext cx="24382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is is the famous title page to Hobbes’ 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Leviathan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.  Look closely at the pictur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. How does it symbolize the idea of absolutis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2. Where can one make out the Social Contrac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181480"/>
            <a:ext cx="670572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1. Ruler w/sword and staff towering over 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ntire n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The ruler is made up of people… his constituents give him his tru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bbes Question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government does Hobbes fav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ight the period he lived (1588-1679) have had an affect upon his thoughts (or, what is his POV?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ways did the policies of Louis XIV mimic Hobbes-ian tho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Two Treatises on Government,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John Lock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690 England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fte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lorious Revolution); CONSTITU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09680"/>
            <a:ext cx="79218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NATURAL STATE of M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ople are naturally good &amp;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ac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Gov’t is largely unnecessary.  Only need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comes about because a very small # of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eople are not honest, and will stea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Person who was stolen from cannot set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unishment, as they will take it too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personal.  Might want death for person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who stole their bre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76320"/>
            <a:ext cx="8991720" cy="61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us, to Locke, Government is created to settle disputes where individual people might act irrationally (like with the thief on previous slide, or in a property dispute).  Government’s job is to preserve people’s rights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Have NATURAL Rights: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Life, liberty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nd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- Remember American Declaration of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 Independence?  Life, liberty and happiness?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Thomas Jefferson got it from Locke… in fact,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efferson’s first draft said the 3 rights above…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but property didn’t sound quite right as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justification for revolt.  Happiness was more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 idealisti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3:31:07Z</dcterms:created>
  <dc:creator>hol-sysop</dc:creator>
  <dc:description/>
  <dc:language>en-US</dc:language>
  <cp:lastModifiedBy>Susan Gregory</cp:lastModifiedBy>
  <dcterms:modified xsi:type="dcterms:W3CDTF">2007-12-11T06:43:20Z</dcterms:modified>
  <cp:revision>9</cp:revision>
  <dc:subject/>
  <dc:title>17th Century Political Philosoph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2510083</vt:r8>
  </property>
  <property fmtid="{D5CDD505-2E9C-101B-9397-08002B2CF9AE}" pid="3" name="_AuthorEmail">
    <vt:lpwstr>chapmam3@ocps.k12.fl.us</vt:lpwstr>
  </property>
  <property fmtid="{D5CDD505-2E9C-101B-9397-08002B2CF9AE}" pid="4" name="_AuthorEmailDisplayName">
    <vt:lpwstr>Chapman, Mark</vt:lpwstr>
  </property>
  <property fmtid="{D5CDD505-2E9C-101B-9397-08002B2CF9AE}" pid="5" name="_EmailSubject">
    <vt:lpwstr>HobbesLocke.ppt</vt:lpwstr>
  </property>
</Properties>
</file>